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B58-E3EB-46A4-A53C-DBE8937F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88D-2B4B-4D89-A88A-AA5EDE2C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493-B937-498B-AB80-08C0BA82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F94-5402-40E4-AECA-86E1E9C0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837-9148-4D5E-9CB4-89A413CD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E3A-5A4F-4E9C-AF16-8FBE3465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F99-FB10-4D04-9BAD-AE29C61B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CEA-565B-4D48-A8CD-C79F2206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73C-0E0B-49FF-AE27-6FC0BF2B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667-15CC-4571-9080-74BB32AA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B36-A7C5-469D-BB34-32741A8F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A10-B1F9-4DAA-A7A3-60A27AF9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C99E-EE76-4B1C-9547-FE875E59F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af.char.ru/books/_54000026758.jpg" TargetMode="External"/><Relationship Id="rId2" Type="http://schemas.openxmlformats.org/officeDocument/2006/relationships/hyperlink" Target="http://freelance.ru/img/portfolio/big/131736.jpg" TargetMode="External"/><Relationship Id="rId3" Type="http://schemas.openxmlformats.org/officeDocument/2006/relationships/hyperlink" Target="http://www.unde.ru/img.php?src=Ildviz3.jpg" TargetMode="External"/><Relationship Id="rId4" Type="http://schemas.openxmlformats.org/officeDocument/2006/relationships/hyperlink" Target="http://ddt-vmost.narod.ru/pdd/svet.jpg" TargetMode="External"/><Relationship Id="rId5" Type="http://schemas.openxmlformats.org/officeDocument/2006/relationships/hyperlink" Target="http://freelance.ru/img/portfolio/big/131738.jpg" TargetMode="External"/><Relationship Id="rId6" Type="http://schemas.openxmlformats.org/officeDocument/2006/relationships/hyperlink" Target="http://www.net-planet.ru/img/articles/129012.jpg" TargetMode="External"/><Relationship Id="rId7" Type="http://schemas.openxmlformats.org/officeDocument/2006/relationships/hyperlink" Target="http://www.avtocity.org/content/image/11378_1.jpg" TargetMode="External"/><Relationship Id="rId8" Type="http://schemas.openxmlformats.org/officeDocument/2006/relationships/hyperlink" Target="http://www.timeszp.com/public/upload/images/Kar_1/svetofor3.JPG" TargetMode="External"/><Relationship Id="rId9" Type="http://schemas.openxmlformats.org/officeDocument/2006/relationships/hyperlink" Target="http://www.etag.com.ua/img/news/normal/umnye-dorogi-v-stolice-pochti-real-nost-" TargetMode="External"/><Relationship Id="rId10" Type="http://schemas.openxmlformats.org/officeDocument/2006/relationships/hyperlink" Target="http://www.kp.ru/upimg/5a3e8f353c90697f8fa8aa939d18ebfb3dd46ab0/429022.jpg" TargetMode="External"/><Relationship Id="rId11" Type="http://schemas.openxmlformats.org/officeDocument/2006/relationships/hyperlink" Target="http://www.centrpro.ru/plakat/dou/znak/dou_5.jpg" TargetMode="External"/><Relationship Id="rId12" Type="http://schemas.openxmlformats.org/officeDocument/2006/relationships/hyperlink" Target="http://fio.novgorod.ru/projects/Project675/pic8.jpg" TargetMode="External"/><Relationship Id="rId13" Type="http://schemas.openxmlformats.org/officeDocument/2006/relationships/hyperlink" Target="http://www.kp.ru/upimg/photo/65161.jpg" TargetMode="External"/><Relationship Id="rId14" Type="http://schemas.openxmlformats.org/officeDocument/2006/relationships/hyperlink" Target="http://www.rotek-avto.ru/images/1(4)jpg" TargetMode="External"/><Relationship Id="rId15" Type="http://schemas.openxmlformats.org/officeDocument/2006/relationships/hyperlink" Target="http://freelance.ru/img/portfolio/big/131740.jpg" TargetMode="External"/><Relationship Id="rId16" Type="http://schemas.openxmlformats.org/officeDocument/2006/relationships/hyperlink" Target="http://www.unde.ru/img.php?src=Ildviz2.jpg" TargetMode="External"/><Relationship Id="rId17" Type="http://schemas.openxmlformats.org/officeDocument/2006/relationships/hyperlink" Target="http://www.dp59.ru/files/Image/title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структаж по Правилам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50920" y="5877000"/>
            <a:ext cx="856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Каменск-Уральский  учитель СОШ № 3 им. П.И. Беляева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ршова Еле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ldviz1"/>
          <p:cNvPicPr/>
          <p:nvPr/>
        </p:nvPicPr>
        <p:blipFill>
          <a:blip r:embed="rId2"/>
          <a:stretch/>
        </p:blipFill>
        <p:spPr>
          <a:xfrm>
            <a:off x="4392720" y="184464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0" y="0"/>
            <a:ext cx="91440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сылки на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f.char.ru/books/_5400002675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reelance.ru/img/portfolio/big/131736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nde.ru/img.php?src=Ildviz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dt-vmost.narod.ru/pdd/svet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reelance.ru/img/portfolio/big/13173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et-planet.ru/img/articles/12901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vtocity.org/content/image/11378_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timeszp.com/public/upload/images/Kar_1/svetofor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etag.com.ua/img/news/normal/umnye-dorogi-v-stolice-pochti-real-n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p.ru/upimg/5a3e8f353c90697f8fa8aa939d18ebfb3dd46ab0/42902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centrpro.ru/plakat/dou/znak/dou_5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io.novgorod.ru/projects/Project675/pic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kp.ru/upimg/photo/6516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rotek-avto.ru/images/1(4)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freelance.ru/img/portfolio/big/131740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unde.ru/img.php?src=Ildviz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dp59.ru/files/Image/title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moikompas.ru/img/compas/2008-03-25/bezopasnost_deti/52149311_orig.jpg -1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velopiter.spb.ru/club/foto/perekhod.jpg -1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chool9sko.narod.ru/pam/70000001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tavto.ru/pics/blog/big/0/25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cc-opt.kolasc.net.ru/projects/pr1069/images/5.jpg -2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novgorod.ru/projects/Project675/pic10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nde.ru/images/photo/Ildviz1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50920" y="260280"/>
            <a:ext cx="87138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средне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начально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ла:Ершова Е.Г., классный руководитель 6 класса, учитель СОШ № 3, г. Каменск-Уральск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любого классного руководителя инструктажи – одно из обязательных мероприятий в классе. Ребята будут не только слушать вас, но и смотреть все пункты на экране. Это поможет лучше запомнить важную для их жизни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инструктаж разделен на части-слайды. После каждого слайда можно подробнее рассмотреть пункт инструкта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User</cp:lastModifiedBy>
  <dcterms:modified xsi:type="dcterms:W3CDTF">2018-11-22T10:01:54Z</dcterms:modified>
  <cp:revision>66</cp:revision>
  <dc:subject/>
  <dc:title>Слайд 1</dc:title>
</cp:coreProperties>
</file>